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C59-6065-4BE3-8C50-1140FF5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D9F-B145-45A9-8D10-93BB4FF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5BA-E72C-4CE5-84DF-C010A70F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73D-DE90-4821-80FB-11C0D90D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B06-1DAF-45B4-824A-7904BA31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BCE-5F1A-49F1-AED8-FB3F7D6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1B1-CCFF-4F3B-A295-302D946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11D-ADCB-4CC1-BC6E-70491DD9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F2A-00EA-4DBB-9CBD-9E46665E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C87-FBC7-423E-A552-C27D21F9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802-C40A-4D5E-87EA-091D3AA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DCA-B8F5-4C8A-A2B0-CECF35A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797-5CB4-411C-93B8-757AD40C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l racconto d’avven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E’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un </a:t>
            </a: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genere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 narrativo che riscuote molto successo tra i lettori perché presenta avvenimenti che si susseguono con un ritmo incalzante e imprevi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l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Verdana"/>
              </a:rPr>
              <a:t>climax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è la progressione di una serie di vocaboli secondo un criterio ascendente, dal meno intenso al più inten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Ad esempio: Marco cominciava ad essere un po’ preoccupato, no era preoccupato, anzi, preoccupatiss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81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</a:rPr>
              <a:t>Flashback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 significa letteralmente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“salto indietro” nel tempo, infatti è una tecnica narrativa che permette di richiamare alla memoria un episodio passato e interrompe la normale successione cronologica della nar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85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</a:rPr>
              <a:t>L’anticipazione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 è una tecnica narrativa che permette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di anticipare ciò che avverrà success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89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La strut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E’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caratterizzata da un </a:t>
            </a: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intreccio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 in cui compaiono spesso </a:t>
            </a: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salti cronologici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 che rendono più articolata la sequenza tipica del testo narrativo (inizio, sviluppo e conclusion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L’intrec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2286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L’intreccio si differenzia dalla fabula e può essere così rappresenta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5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pic>
        <p:nvPicPr>
          <p:cNvPr id="53" name="Fabula%20e%20intreccio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391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l conten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l contenuto dei racconti d’avventura prese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avvenimenti verosimi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avvenimenti immagina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sfondo sto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svolgimento di un viagg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situazioni imprevi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57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 personagg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Sono “a tutto tondo”, cioè descritti con molti dettagli sia per quanto riguarda l’aspetto fisico sia per quanto riguarda la psicologia. Il protagonista deve affrontare l’imprevisto e il pericolo fino a ritrovarsi, nel finale, più maturo. Egli non è un eroe perfetto come quello epico, ma un uomo con le sue debolezze, che spesso, di fronte agli eventi imprevisti, necessita di aiu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1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 luogh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Sono misteriosi, selvaggi e lontani: foreste, isole deserte, profondità sotterranee. Ciò avviene per due moti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l lettore immergendosi nel racconto d’avventura cerca di sfuggire la monotonia quotidia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luoghi simili sono generalmente irti di difficoltà e richiedono al protagonista eccezionali doti di audacia e adat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5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l le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Viene facilmente coinvolto perché apprezza l’imprevisto che sconvolge la banalità della vita, s’immedesima con il protagonista, soffre con lui, prova paura, ansia, incertezza, cerca una soluzione ai suoi proble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9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Il narra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Può ess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nterno, se partecipa direttamente all’azione, cioè se è uno dei personaggi. Scrive in prima perso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esterno, se non partecipa all’azione. Scrive in terza perso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73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Verdana"/>
              </a:rPr>
              <a:t>Le tecniche 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Tra le tecniche narrative sono da segnal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Verdana"/>
              </a:rPr>
              <a:t>il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Verdana"/>
              </a:rPr>
              <a:t>clima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</a:rPr>
              <a:t>il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Verdana"/>
              </a:rPr>
              <a:t> flashbac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Verdana"/>
              </a:rPr>
              <a:t>l’anticipazione;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l’alternarsi di sequenze narrative a sequenze dialogate, riflessive, descrittive. Tale alternanza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determina un ritmo vario, ora dinamico, ora sta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77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drang</cp:lastModifiedBy>
  <dcterms:modified xsi:type="dcterms:W3CDTF">2001-01-29T21:00:38Z</dcterms:modified>
  <cp:revision>27</cp:revision>
  <dc:subject/>
  <dc:title>Il racconto d’avventura</dc:title>
</cp:coreProperties>
</file>