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F8E-BB6F-40A0-BE3C-999CC811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F54-8D53-446A-A7E4-96299FF6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6EE-C866-40CE-AC9A-CB35F7F2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1D5-37B5-43D1-B704-F0E7B971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C5B5-EBDE-4C79-859B-C0C0BD43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5754-8479-4E51-9671-0D8F6186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C18-9726-49E3-87B1-3334C921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9A2-34A0-4ED5-B054-A7F58614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FE6C-1C73-4A04-8C86-46105630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48F-7FAB-4D5D-BB04-C83B8D6D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6C6-1AA4-4F32-9139-8D784316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CEC-E6FF-4BA2-9369-9A1D35B8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EB04-951B-4741-8DD1-823693F82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66"/>
                </a:solidFill>
                <a:latin typeface="Verdana"/>
              </a:rPr>
              <a:t>Orientam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590560"/>
            <a:ext cx="76197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ccecff"/>
                </a:solidFill>
                <a:latin typeface="Verdana"/>
              </a:rPr>
              <a:t>Le scuole superio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44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66"/>
                </a:solidFill>
                <a:latin typeface="Verdana"/>
              </a:rPr>
              <a:t>Le scuole superior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47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2362320"/>
            <a:ext cx="3581280" cy="1523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ecff"/>
                </a:solidFill>
                <a:latin typeface="Verdana"/>
              </a:rPr>
              <a:t>Lice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3200400"/>
            <a:ext cx="3657600" cy="15238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ecff"/>
                </a:solidFill>
                <a:latin typeface="Verdana"/>
              </a:rPr>
              <a:t>Istr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ecff"/>
                </a:solidFill>
                <a:latin typeface="Verdana"/>
              </a:rPr>
              <a:t>tec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52880" y="4114800"/>
            <a:ext cx="3657600" cy="160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ecff"/>
                </a:solidFill>
                <a:latin typeface="Verdana"/>
              </a:rPr>
              <a:t>Istr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ecff"/>
                </a:solidFill>
                <a:latin typeface="Verdana"/>
              </a:rPr>
              <a:t>profess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Verdana"/>
              </a:rPr>
              <a:t>Lic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53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3048120"/>
            <a:ext cx="3048120" cy="1523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ecff"/>
                </a:solidFill>
                <a:latin typeface="Verdana"/>
              </a:rPr>
              <a:t>Istru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Verdana"/>
              </a:rPr>
              <a:t>scienti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2133720"/>
            <a:ext cx="3048120" cy="1523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ecff"/>
                </a:solidFill>
                <a:latin typeface="Verdana"/>
              </a:rPr>
              <a:t>Istru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Verdana"/>
              </a:rPr>
              <a:t>clas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648320"/>
            <a:ext cx="3048120" cy="1523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ecff"/>
                </a:solidFill>
                <a:latin typeface="Verdana"/>
              </a:rPr>
              <a:t>Istru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Verdana"/>
              </a:rPr>
              <a:t>socio-psic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Verdana"/>
              </a:rPr>
              <a:t>peda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4648320"/>
            <a:ext cx="3048120" cy="1523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ecff"/>
                </a:solidFill>
                <a:latin typeface="Verdana"/>
              </a:rPr>
              <a:t>Istru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Verdana"/>
              </a:rPr>
              <a:t>lingui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3048120"/>
            <a:ext cx="3048120" cy="1523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ccecff"/>
                </a:solidFill>
                <a:latin typeface="Verdana"/>
              </a:rPr>
              <a:t>Istru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ecff"/>
                </a:solidFill>
                <a:latin typeface="Verdana"/>
              </a:rPr>
              <a:t>arti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Verdana"/>
              </a:rPr>
              <a:t>Istruzione te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61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95480" y="2971800"/>
            <a:ext cx="3200400" cy="9907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Verdana"/>
              </a:rPr>
              <a:t>Istitu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Verdana"/>
              </a:rPr>
              <a:t>tec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00400" y="2057400"/>
            <a:ext cx="2286000" cy="914040"/>
            <a:chOff x="3200400" y="2057400"/>
            <a:chExt cx="2286000" cy="914040"/>
          </a:xfrm>
        </p:grpSpPr>
        <p:sp>
          <p:nvSpPr>
            <p:cNvPr id="64" name=""/>
            <p:cNvSpPr/>
            <p:nvPr/>
          </p:nvSpPr>
          <p:spPr>
            <a:xfrm>
              <a:off x="3200400" y="2057400"/>
              <a:ext cx="2286000" cy="609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ccecff"/>
                  </a:solidFill>
                  <a:latin typeface="Verdana"/>
                </a:rPr>
                <a:t>commerc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267080" y="2666520"/>
              <a:ext cx="763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2120" y="2286000"/>
            <a:ext cx="2589840" cy="838080"/>
            <a:chOff x="762120" y="2286000"/>
            <a:chExt cx="2589840" cy="838080"/>
          </a:xfrm>
        </p:grpSpPr>
        <p:sp>
          <p:nvSpPr>
            <p:cNvPr id="67" name=""/>
            <p:cNvSpPr/>
            <p:nvPr/>
          </p:nvSpPr>
          <p:spPr>
            <a:xfrm>
              <a:off x="762120" y="2286000"/>
              <a:ext cx="2285640" cy="609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ccecff"/>
                  </a:solidFill>
                  <a:latin typeface="Verdana"/>
                </a:rPr>
                <a:t>per geomet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2818800" y="2790720"/>
              <a:ext cx="533160" cy="3333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04920" y="3124080"/>
            <a:ext cx="2590200" cy="609840"/>
            <a:chOff x="304920" y="3124080"/>
            <a:chExt cx="2590200" cy="609840"/>
          </a:xfrm>
        </p:grpSpPr>
        <p:sp>
          <p:nvSpPr>
            <p:cNvPr id="70" name=""/>
            <p:cNvSpPr/>
            <p:nvPr/>
          </p:nvSpPr>
          <p:spPr>
            <a:xfrm>
              <a:off x="304920" y="3124080"/>
              <a:ext cx="2285640" cy="6098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ccecff"/>
                  </a:solidFill>
                  <a:latin typeface="Verdana"/>
                </a:rPr>
                <a:t>agra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590560" y="3429000"/>
              <a:ext cx="3045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066680" y="3762360"/>
            <a:ext cx="2286000" cy="733320"/>
            <a:chOff x="1066680" y="3762360"/>
            <a:chExt cx="2286000" cy="733320"/>
          </a:xfrm>
        </p:grpSpPr>
        <p:sp>
          <p:nvSpPr>
            <p:cNvPr id="73" name=""/>
            <p:cNvSpPr/>
            <p:nvPr/>
          </p:nvSpPr>
          <p:spPr>
            <a:xfrm>
              <a:off x="1066680" y="3886200"/>
              <a:ext cx="2286000" cy="609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ccecff"/>
                  </a:solidFill>
                  <a:latin typeface="Verdana"/>
                </a:rPr>
                <a:t>per il turis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971440" y="3762360"/>
              <a:ext cx="199800" cy="2001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419720" y="3962520"/>
            <a:ext cx="2286000" cy="990000"/>
            <a:chOff x="4419720" y="3962520"/>
            <a:chExt cx="2286000" cy="990000"/>
          </a:xfrm>
        </p:grpSpPr>
        <p:sp>
          <p:nvSpPr>
            <p:cNvPr id="76" name=""/>
            <p:cNvSpPr/>
            <p:nvPr/>
          </p:nvSpPr>
          <p:spPr>
            <a:xfrm>
              <a:off x="4419720" y="4343040"/>
              <a:ext cx="2286000" cy="6094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ccecff"/>
                  </a:solidFill>
                  <a:latin typeface="Verdana"/>
                </a:rPr>
                <a:t>industr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81840" y="3962520"/>
              <a:ext cx="304560" cy="380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743200" y="4834080"/>
            <a:ext cx="1862280" cy="652320"/>
            <a:chOff x="2743200" y="4834080"/>
            <a:chExt cx="1862280" cy="652320"/>
          </a:xfrm>
        </p:grpSpPr>
        <p:sp>
          <p:nvSpPr>
            <p:cNvPr id="79" name=""/>
            <p:cNvSpPr/>
            <p:nvPr/>
          </p:nvSpPr>
          <p:spPr>
            <a:xfrm>
              <a:off x="2743200" y="5105520"/>
              <a:ext cx="1828800" cy="3808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chim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4376880" y="4834080"/>
              <a:ext cx="22860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200400" y="4905000"/>
            <a:ext cx="1828800" cy="886320"/>
            <a:chOff x="3200400" y="4905000"/>
            <a:chExt cx="1828800" cy="886320"/>
          </a:xfrm>
        </p:grpSpPr>
        <p:sp>
          <p:nvSpPr>
            <p:cNvPr id="82" name=""/>
            <p:cNvSpPr/>
            <p:nvPr/>
          </p:nvSpPr>
          <p:spPr>
            <a:xfrm>
              <a:off x="3200400" y="54100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biolo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667400" y="4905000"/>
              <a:ext cx="285480" cy="552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191120" y="4952880"/>
            <a:ext cx="1828800" cy="1067040"/>
            <a:chOff x="4191120" y="4952880"/>
            <a:chExt cx="1828800" cy="1067040"/>
          </a:xfrm>
        </p:grpSpPr>
        <p:sp>
          <p:nvSpPr>
            <p:cNvPr id="85" name=""/>
            <p:cNvSpPr/>
            <p:nvPr/>
          </p:nvSpPr>
          <p:spPr>
            <a:xfrm>
              <a:off x="4191120" y="56386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aliment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5181120" y="4952880"/>
              <a:ext cx="195480" cy="685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334120" y="4938840"/>
            <a:ext cx="1828800" cy="1309680"/>
            <a:chOff x="5334120" y="4938840"/>
            <a:chExt cx="1828800" cy="1309680"/>
          </a:xfrm>
        </p:grpSpPr>
        <p:sp>
          <p:nvSpPr>
            <p:cNvPr id="88" name=""/>
            <p:cNvSpPr/>
            <p:nvPr/>
          </p:nvSpPr>
          <p:spPr>
            <a:xfrm>
              <a:off x="5334120" y="58672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ed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72320" y="4938840"/>
              <a:ext cx="299880" cy="928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191280" y="4933800"/>
            <a:ext cx="2114640" cy="1162080"/>
            <a:chOff x="6191280" y="4933800"/>
            <a:chExt cx="2114640" cy="1162080"/>
          </a:xfrm>
        </p:grpSpPr>
        <p:sp>
          <p:nvSpPr>
            <p:cNvPr id="91" name=""/>
            <p:cNvSpPr/>
            <p:nvPr/>
          </p:nvSpPr>
          <p:spPr>
            <a:xfrm>
              <a:off x="6477120" y="5715000"/>
              <a:ext cx="1828800" cy="3808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informat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91280" y="4933800"/>
              <a:ext cx="514440" cy="857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6405480" y="4876920"/>
            <a:ext cx="2281320" cy="914400"/>
            <a:chOff x="6405480" y="4876920"/>
            <a:chExt cx="2281320" cy="914400"/>
          </a:xfrm>
        </p:grpSpPr>
        <p:sp>
          <p:nvSpPr>
            <p:cNvPr id="94" name=""/>
            <p:cNvSpPr/>
            <p:nvPr/>
          </p:nvSpPr>
          <p:spPr>
            <a:xfrm>
              <a:off x="6858000" y="54100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elettro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05480" y="4876920"/>
              <a:ext cx="557280" cy="637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553080" y="4800600"/>
            <a:ext cx="2362320" cy="609480"/>
            <a:chOff x="6553080" y="4800600"/>
            <a:chExt cx="2362320" cy="609480"/>
          </a:xfrm>
        </p:grpSpPr>
        <p:sp>
          <p:nvSpPr>
            <p:cNvPr id="97" name=""/>
            <p:cNvSpPr/>
            <p:nvPr/>
          </p:nvSpPr>
          <p:spPr>
            <a:xfrm>
              <a:off x="7086600" y="5029200"/>
              <a:ext cx="1828800" cy="3808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tess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53080" y="4800600"/>
              <a:ext cx="547920" cy="385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705720" y="4648320"/>
            <a:ext cx="2209680" cy="380880"/>
            <a:chOff x="6705720" y="4648320"/>
            <a:chExt cx="2209680" cy="380880"/>
          </a:xfrm>
        </p:grpSpPr>
        <p:sp>
          <p:nvSpPr>
            <p:cNvPr id="100" name=""/>
            <p:cNvSpPr/>
            <p:nvPr/>
          </p:nvSpPr>
          <p:spPr>
            <a:xfrm>
              <a:off x="7086600" y="4648320"/>
              <a:ext cx="1828800" cy="3808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tin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05720" y="4724280"/>
              <a:ext cx="380880" cy="76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705720" y="4267080"/>
            <a:ext cx="2057400" cy="381240"/>
            <a:chOff x="6705720" y="4267080"/>
            <a:chExt cx="2057400" cy="381240"/>
          </a:xfrm>
        </p:grpSpPr>
        <p:sp>
          <p:nvSpPr>
            <p:cNvPr id="103" name=""/>
            <p:cNvSpPr/>
            <p:nvPr/>
          </p:nvSpPr>
          <p:spPr>
            <a:xfrm>
              <a:off x="6934320" y="42670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traspor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705720" y="4495680"/>
              <a:ext cx="228600" cy="763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Verdana"/>
              </a:rPr>
              <a:t>Istruzione profession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alpha_off_80x80" descr=""/>
          <p:cNvPicPr/>
          <p:nvPr/>
        </p:nvPicPr>
        <p:blipFill>
          <a:blip r:embed="rId1"/>
          <a:stretch/>
        </p:blipFill>
        <p:spPr>
          <a:xfrm>
            <a:off x="8381880" y="299880"/>
            <a:ext cx="533520" cy="462240"/>
          </a:xfrm>
          <a:prstGeom prst="rect">
            <a:avLst/>
          </a:prstGeom>
          <a:ln w="0">
            <a:noFill/>
          </a:ln>
        </p:spPr>
      </p:pic>
      <p:pic>
        <p:nvPicPr>
          <p:cNvPr id="107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124080" y="2438280"/>
            <a:ext cx="3200400" cy="1143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Istitu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profession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43200" y="4834080"/>
            <a:ext cx="1862280" cy="652320"/>
            <a:chOff x="2743200" y="4834080"/>
            <a:chExt cx="1862280" cy="652320"/>
          </a:xfrm>
        </p:grpSpPr>
        <p:sp>
          <p:nvSpPr>
            <p:cNvPr id="110" name=""/>
            <p:cNvSpPr/>
            <p:nvPr/>
          </p:nvSpPr>
          <p:spPr>
            <a:xfrm>
              <a:off x="2743200" y="5105520"/>
              <a:ext cx="1828800" cy="3808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esteti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376880" y="4834080"/>
              <a:ext cx="22860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200400" y="4905000"/>
            <a:ext cx="1828800" cy="886320"/>
            <a:chOff x="3200400" y="4905000"/>
            <a:chExt cx="1828800" cy="886320"/>
          </a:xfrm>
        </p:grpSpPr>
        <p:sp>
          <p:nvSpPr>
            <p:cNvPr id="113" name=""/>
            <p:cNvSpPr/>
            <p:nvPr/>
          </p:nvSpPr>
          <p:spPr>
            <a:xfrm>
              <a:off x="3200400" y="54100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panetti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667400" y="4905000"/>
              <a:ext cx="285480" cy="552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191120" y="4952880"/>
            <a:ext cx="1828800" cy="1067040"/>
            <a:chOff x="4191120" y="4952880"/>
            <a:chExt cx="1828800" cy="1067040"/>
          </a:xfrm>
        </p:grpSpPr>
        <p:sp>
          <p:nvSpPr>
            <p:cNvPr id="116" name=""/>
            <p:cNvSpPr/>
            <p:nvPr/>
          </p:nvSpPr>
          <p:spPr>
            <a:xfrm>
              <a:off x="4191120" y="56386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pasticci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181120" y="4952880"/>
              <a:ext cx="195480" cy="685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4120" y="4938840"/>
            <a:ext cx="1828800" cy="1309680"/>
            <a:chOff x="5334120" y="4938840"/>
            <a:chExt cx="1828800" cy="1309680"/>
          </a:xfrm>
        </p:grpSpPr>
        <p:sp>
          <p:nvSpPr>
            <p:cNvPr id="119" name=""/>
            <p:cNvSpPr/>
            <p:nvPr/>
          </p:nvSpPr>
          <p:spPr>
            <a:xfrm>
              <a:off x="5334120" y="58672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cuo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72320" y="4938840"/>
              <a:ext cx="299880" cy="928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48520" y="4876920"/>
            <a:ext cx="2113920" cy="1162080"/>
            <a:chOff x="6248520" y="4876920"/>
            <a:chExt cx="2113920" cy="1162080"/>
          </a:xfrm>
        </p:grpSpPr>
        <p:sp>
          <p:nvSpPr>
            <p:cNvPr id="122" name=""/>
            <p:cNvSpPr/>
            <p:nvPr/>
          </p:nvSpPr>
          <p:spPr>
            <a:xfrm>
              <a:off x="6534000" y="5658120"/>
              <a:ext cx="1828440" cy="3808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faleg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48520" y="4876920"/>
              <a:ext cx="514080" cy="8575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553080" y="4724280"/>
            <a:ext cx="2281320" cy="914400"/>
            <a:chOff x="6553080" y="4724280"/>
            <a:chExt cx="2281320" cy="914400"/>
          </a:xfrm>
        </p:grpSpPr>
        <p:sp>
          <p:nvSpPr>
            <p:cNvPr id="125" name=""/>
            <p:cNvSpPr/>
            <p:nvPr/>
          </p:nvSpPr>
          <p:spPr>
            <a:xfrm>
              <a:off x="7005600" y="525744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carrozzi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724280"/>
              <a:ext cx="557280" cy="637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629400" y="4572000"/>
            <a:ext cx="2362320" cy="609480"/>
            <a:chOff x="6629400" y="4572000"/>
            <a:chExt cx="2362320" cy="609480"/>
          </a:xfrm>
        </p:grpSpPr>
        <p:sp>
          <p:nvSpPr>
            <p:cNvPr id="128" name=""/>
            <p:cNvSpPr/>
            <p:nvPr/>
          </p:nvSpPr>
          <p:spPr>
            <a:xfrm>
              <a:off x="7162920" y="4800600"/>
              <a:ext cx="1828800" cy="3808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murat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29400" y="4572000"/>
              <a:ext cx="547920" cy="385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733920" y="3809880"/>
            <a:ext cx="2971800" cy="121932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entri di form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profes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3400560"/>
            <a:ext cx="1828800" cy="714240"/>
            <a:chOff x="1981080" y="3400560"/>
            <a:chExt cx="1828800" cy="714240"/>
          </a:xfrm>
        </p:grpSpPr>
        <p:sp>
          <p:nvSpPr>
            <p:cNvPr id="132" name=""/>
            <p:cNvSpPr/>
            <p:nvPr/>
          </p:nvSpPr>
          <p:spPr>
            <a:xfrm>
              <a:off x="1981080" y="3733920"/>
              <a:ext cx="1828800" cy="3808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per il commer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00400" y="3400560"/>
              <a:ext cx="395280" cy="3333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838080" y="3276360"/>
            <a:ext cx="2438640" cy="457560"/>
            <a:chOff x="838080" y="3276360"/>
            <a:chExt cx="2438640" cy="457560"/>
          </a:xfrm>
        </p:grpSpPr>
        <p:sp>
          <p:nvSpPr>
            <p:cNvPr id="135" name=""/>
            <p:cNvSpPr/>
            <p:nvPr/>
          </p:nvSpPr>
          <p:spPr>
            <a:xfrm>
              <a:off x="838080" y="33526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per l’agricol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666880" y="3276360"/>
              <a:ext cx="60984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" y="2895480"/>
            <a:ext cx="2666880" cy="381240"/>
            <a:chOff x="457200" y="2895480"/>
            <a:chExt cx="2666880" cy="381240"/>
          </a:xfrm>
        </p:grpSpPr>
        <p:sp>
          <p:nvSpPr>
            <p:cNvPr id="138" name=""/>
            <p:cNvSpPr/>
            <p:nvPr/>
          </p:nvSpPr>
          <p:spPr>
            <a:xfrm>
              <a:off x="457200" y="2895480"/>
              <a:ext cx="243828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industria e artigian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2895480" y="3076560"/>
              <a:ext cx="228600" cy="144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85800" y="2438280"/>
            <a:ext cx="2590920" cy="381240"/>
            <a:chOff x="685800" y="2438280"/>
            <a:chExt cx="2590920" cy="381240"/>
          </a:xfrm>
        </p:grpSpPr>
        <p:sp>
          <p:nvSpPr>
            <p:cNvPr id="141" name=""/>
            <p:cNvSpPr/>
            <p:nvPr/>
          </p:nvSpPr>
          <p:spPr>
            <a:xfrm>
              <a:off x="685800" y="24382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alberghier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4600" y="2666880"/>
              <a:ext cx="762120" cy="1191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676520" y="1981080"/>
            <a:ext cx="1919160" cy="638280"/>
            <a:chOff x="1676520" y="1981080"/>
            <a:chExt cx="1919160" cy="638280"/>
          </a:xfrm>
        </p:grpSpPr>
        <p:sp>
          <p:nvSpPr>
            <p:cNvPr id="144" name=""/>
            <p:cNvSpPr/>
            <p:nvPr/>
          </p:nvSpPr>
          <p:spPr>
            <a:xfrm>
              <a:off x="1676520" y="19810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abbigli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14800" y="2314440"/>
              <a:ext cx="38088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429000" y="1752480"/>
            <a:ext cx="1828800" cy="685800"/>
            <a:chOff x="3429000" y="1752480"/>
            <a:chExt cx="1828800" cy="685800"/>
          </a:xfrm>
        </p:grpSpPr>
        <p:sp>
          <p:nvSpPr>
            <p:cNvPr id="147" name=""/>
            <p:cNvSpPr/>
            <p:nvPr/>
          </p:nvSpPr>
          <p:spPr>
            <a:xfrm>
              <a:off x="3429000" y="1752480"/>
              <a:ext cx="182880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meccan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43400" y="2133720"/>
              <a:ext cx="15228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334120" y="1828800"/>
            <a:ext cx="1828800" cy="685800"/>
            <a:chOff x="5334120" y="1828800"/>
            <a:chExt cx="1828800" cy="685800"/>
          </a:xfrm>
        </p:grpSpPr>
        <p:sp>
          <p:nvSpPr>
            <p:cNvPr id="150" name=""/>
            <p:cNvSpPr/>
            <p:nvPr/>
          </p:nvSpPr>
          <p:spPr>
            <a:xfrm>
              <a:off x="5334120" y="1828800"/>
              <a:ext cx="1828800" cy="3808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elettr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5486040" y="2162160"/>
              <a:ext cx="152280" cy="3524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186240" y="2286000"/>
            <a:ext cx="1967040" cy="519120"/>
            <a:chOff x="6186240" y="2286000"/>
            <a:chExt cx="1967040" cy="519120"/>
          </a:xfrm>
        </p:grpSpPr>
        <p:sp>
          <p:nvSpPr>
            <p:cNvPr id="153" name=""/>
            <p:cNvSpPr/>
            <p:nvPr/>
          </p:nvSpPr>
          <p:spPr>
            <a:xfrm>
              <a:off x="6324480" y="2286000"/>
              <a:ext cx="1828800" cy="38088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elettron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86240" y="2576520"/>
              <a:ext cx="22860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310440" y="2895480"/>
            <a:ext cx="2300040" cy="381240"/>
            <a:chOff x="6310440" y="2895480"/>
            <a:chExt cx="2300040" cy="381240"/>
          </a:xfrm>
        </p:grpSpPr>
        <p:sp>
          <p:nvSpPr>
            <p:cNvPr id="156" name=""/>
            <p:cNvSpPr/>
            <p:nvPr/>
          </p:nvSpPr>
          <p:spPr>
            <a:xfrm>
              <a:off x="6629400" y="2895480"/>
              <a:ext cx="1981080" cy="3812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ccecff"/>
                  </a:solidFill>
                  <a:latin typeface="Verdana"/>
                </a:rPr>
                <a:t>per l’arte applic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310440" y="3081240"/>
              <a:ext cx="30456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17:01:36Z</dcterms:created>
  <dc:creator>drang</dc:creator>
  <dc:description/>
  <dc:language>en-US</dc:language>
  <cp:lastModifiedBy>alpha</cp:lastModifiedBy>
  <dcterms:modified xsi:type="dcterms:W3CDTF">2001-11-01T17:05:02Z</dcterms:modified>
  <cp:revision>57</cp:revision>
  <dc:subject/>
  <dc:title>Il racconto d’avventura</dc:title>
</cp:coreProperties>
</file>