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D32-D3FF-40B0-ADBD-60783F22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EE7-07DA-4BCD-8B28-65A8E4C3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A00-321C-4DD5-8C9E-0703BF1B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C53-C5F4-43FE-AA8F-4C3DC0D0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71D-D5C9-4349-9FC0-49DC1B9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A22-31DC-4D78-BE1F-1B70E0CF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A55-729A-43B9-A1E4-800D2E0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698-9E23-46C3-B754-BD2B73E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89A-1658-4954-A6C3-AB2E93FE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DAD-340A-44C2-9886-4D4526B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9C9-635D-43CB-A94C-F36E67E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7E9-669E-4211-92B1-86ECB15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F5B5-9C1A-4637-B2DE-9344AB07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l genere fantascientif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Nasce nel 1926, quando negli Stati Uniti si pubblica per la prima volta una rivista specializzata in racconti di </a:t>
            </a:r>
            <a:r>
              <a:rPr b="0" i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science fiction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(termine inglese per fantasci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Comprende racconti o romanzi che nei confronti del progresso tecnologico manifest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fiducia ottim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cond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l ter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l termine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“fantascienza” è dato dall’unione di due nom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fanta[sia] + sc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nfatti i luoghi, le situazioni e i personaggi fantastici che appaiono in questi racconti vengono presentati come realmente esistenti, scientificamente possibi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l tempo della narr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Il tempo della narrazione è quasi sempre i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Può comunque accadere che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l presente, oppure il passato e il futuro vengano mescolati insieme attraverso un espediente, quello della macchina del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5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 luoghi della narr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ossono essere o la Terra o gli spazi extrater-res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Nel primo caso il lettore viene tranquillizzato, sentendosi a suo agio in luoghi a lui noti. Così maggiore sarà la sua sorpresa a mano a mano che il racconto comincerà a sviluppar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Quando invece i luoghi della narrazione sono gli spazi extraterrestri, da subito compaiono il mistero e il peric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56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 personagg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ossono essere uomini, animali, macchine (come ad esempio i robot o i computer) o creature immaginarie (non solo extraterrestri, ma anche fasci di luce o esseri dalla forma indefini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cco quindi comparire lo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“strano”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, ossia lo sconosciuto, il diverso, che è uno degli ingredienti più avvincenti dei racconti di fantascienza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0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l lingu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E’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quello delle scienze, e in particolare dell’informatica, della genetica, dell’astronomia, dell’ingegneria spaziale e della ciberne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Ciò dipende naturalmente dai contenuti che questo genere letterario affro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La strut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Come nel racconto d’avventura, è caratterizzata dall’intrec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Avremo quindi salti cronologici con flashback e anticip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Le tecniche 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Le principali tecniche narrative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un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ritmo incalzant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, dato dal predominare di sequenze narrative e dialoga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la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suspens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, un artificio narrativo grazie al quale si tiene viva l’attenzione del lettore, catturato dal desiderio di sapere cosa sta per accad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7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l narra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l narratore può ess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interno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, ossia uno dei personaggi e quindi direttamente partecipe dell’azione; scrive in prima perso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sterno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, scrive in terz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76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alpha</cp:lastModifiedBy>
  <dcterms:modified xsi:type="dcterms:W3CDTF">2001-12-12T17:59:43Z</dcterms:modified>
  <cp:revision>51</cp:revision>
  <dc:subject/>
  <dc:title>Il racconto d’avventura</dc:title>
</cp:coreProperties>
</file>