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2FC5-6E36-4C86-9E30-177E891846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CF8-2EAA-45A1-8A23-1A0E7305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227-E3A5-410C-8348-C8868E5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16D-5444-4EAA-8E21-9C097B1D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492-8D01-4E02-B4F8-0873AE88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1C1-2D5F-4E46-8861-C7BCA1E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329-F228-4834-B4A6-02B6200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AE2-2D4C-4A05-A8C3-294A7211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82D-DB4D-4F07-B182-A75530E9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24D-C21E-4B70-B248-4343BDDD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18E-0044-43E9-8A7A-D1C03698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B00-812B-4EF8-BB39-C640300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0A2-9193-4C2D-A2D0-A259FCE6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FC4-2C81-4523-8793-9C8734BA97C4}" type="slidenum"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falsi amici: semplici parole che sono spesso fonte di errore</a:t>
            </a:r>
            <a:endParaRPr b="0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50" name="j0078742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210040" cy="2020680"/>
          </a:xfrm>
          <a:prstGeom prst="rect">
            <a:avLst/>
          </a:prstGeom>
          <a:ln w="0">
            <a:noFill/>
          </a:ln>
        </p:spPr>
      </p:pic>
      <p:pic>
        <p:nvPicPr>
          <p:cNvPr id="51" name="alpha_testata_4_a" descr=""/>
          <p:cNvPicPr/>
          <p:nvPr/>
        </p:nvPicPr>
        <p:blipFill>
          <a:blip r:embed="rId2"/>
          <a:stretch/>
        </p:blipFill>
        <p:spPr>
          <a:xfrm>
            <a:off x="8413920" y="380880"/>
            <a:ext cx="42516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lpha_testata_4_a" descr=""/>
          <p:cNvPicPr/>
          <p:nvPr/>
        </p:nvPicPr>
        <p:blipFill>
          <a:blip r:embed="rId1"/>
          <a:stretch/>
        </p:blipFill>
        <p:spPr>
          <a:xfrm>
            <a:off x="8413920" y="380880"/>
            <a:ext cx="425160" cy="33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990720"/>
            <a:ext cx="8001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si traduce un testo da una lingua verso un’altra, vere e proprie trappole per il traduttore sono spesso i cosiddett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alse friend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tratta di falsi amici nel senso che, a differenza di quanto normalmente accade, le difficoltà che il traduttore incontra nella loro traduzione non sono dovute alla troppa lontananza e diversità fra la lingua di partenza e la lingua d’arrivo, bensì alla grande affinità morfologica fra le parole nelle due lingue.</a:t>
            </a:r>
            <a:br>
              <a:rPr sz="2000"/>
            </a:b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est’ultimo aspetto potrebbe costituire un vero e proprio inganno per chi si cimenta nella traduzione o comprensione di un testo, poiché la tendenza sarà quella di tradurre o interpretare questi termini letteralmente, ottenendo così un significato fuorviante dal punto di vista concettuale. </a:t>
            </a:r>
            <a:br>
              <a:rPr sz="2000"/>
            </a:b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TRATTA DI QUEI TERMINI DI UNA LINGUA CHE POSSONO COMPARIRE IN UN’ALTRA, ACQUISTANDO UN SIGNIFICATO NON AFFINE, BENSI’ TOTALMENTE DIVERSO 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lpha_testata_4_a" descr=""/>
          <p:cNvPicPr/>
          <p:nvPr/>
        </p:nvPicPr>
        <p:blipFill>
          <a:blip r:embed="rId1"/>
          <a:stretch/>
        </p:blipFill>
        <p:spPr>
          <a:xfrm>
            <a:off x="8413920" y="380880"/>
            <a:ext cx="425160" cy="33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99072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falsi amici si distinguono in totali e parziali.I totali hanno sviluppato significati completamente diversi ed hanno in comune solo l’origine e la forma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o: il termine inglese FIRM si traduce in italiano con DITTA. (il termine italiano FIRMA si traduce in inglese con SIGNATURE)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i falsi amici parziali la differenza di significato è più sottile , poiché può anche essere mantenuto il valore semantico originario ma accanto ad altri significati diversi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o: il termine inglese JOURNAL si traduce in italiano con RIVISTA. (il termine italiano GIORNALE si traduce in inglese con NEWSPAPER)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86360"/>
            <a:ext cx="3505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lpha_testata_4_a" descr=""/>
          <p:cNvPicPr/>
          <p:nvPr/>
        </p:nvPicPr>
        <p:blipFill>
          <a:blip r:embed="rId1"/>
          <a:stretch/>
        </p:blipFill>
        <p:spPr>
          <a:xfrm>
            <a:off x="8413920" y="380880"/>
            <a:ext cx="425160" cy="333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tually  -   in realtà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diction  -  assuefazion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noy  -  disturbar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pe  -  scimmi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rave  -  coraggioso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sk  -  bott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ducation  -  istruzion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tory  -  fabbric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ymnasium  -  palestr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orse  -  cavallo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cture  -  conferenz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ibrary  -  bibliotec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gazine – rivist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ss  -  confusion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rents  -  genitori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trol  -  benzin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tend  -  finger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ale  -  vendit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orm  -  temporal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ranger – straniero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ap – rubinetto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rkey – tacchino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ltimate  -  fondamentale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64" name="alpha_testata_4_a" descr=""/>
          <p:cNvPicPr/>
          <p:nvPr/>
        </p:nvPicPr>
        <p:blipFill>
          <a:blip r:embed="rId1"/>
          <a:stretch/>
        </p:blipFill>
        <p:spPr>
          <a:xfrm>
            <a:off x="8413920" y="380880"/>
            <a:ext cx="42516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9:36:55Z</dcterms:created>
  <dc:creator>WINDOWS me</dc:creator>
  <dc:description/>
  <dc:language>en-US</dc:language>
  <cp:lastModifiedBy>alpha</cp:lastModifiedBy>
  <dcterms:modified xsi:type="dcterms:W3CDTF">2004-01-17T21:41:07Z</dcterms:modified>
  <cp:revision>52</cp:revision>
  <dc:subject/>
  <dc:title>FALSE FRIENDS</dc:title>
</cp:coreProperties>
</file>