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682-6EB7-460D-9E1A-9F6CC296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B31-3E07-45DA-8522-61BD7E64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0E4-0F9D-4A71-A957-6C91D03F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D34-44B5-48AB-88D6-F23019CF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B43-9974-4864-BB56-247D7761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C0E-203C-459E-96AA-B808CD3A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D17-9BE9-44FC-9367-33246630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3E0-3C0D-4CE2-AE72-1F5FDA3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F86-2DA9-4665-BCF0-FA857128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7E9-E650-4D35-B43F-2ED0E280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F2C-93D3-4A1F-A9B1-DB13FFF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2EF-B909-437A-B66D-D803D15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67D0-2295-40E5-B3B0-E58A2ECD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ccff"/>
                </a:solidFill>
                <a:latin typeface="Verdana"/>
              </a:rPr>
              <a:t>Il di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La parola </a:t>
            </a:r>
            <a:r>
              <a:rPr b="0" i="1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diario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deriva dal latino </a:t>
            </a:r>
            <a:r>
              <a:rPr b="0" i="1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diarium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e ha la stessa radice della parola </a:t>
            </a:r>
            <a:r>
              <a:rPr b="0" i="1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dies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, che significa “giorno”. Un diario, infatti, si scrive quasi quotidian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E’ un testo sogget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Anche il diario come l’autobiografia è un testo soggettivo, in quanto i pensieri, le esperienze, i problemi dell’autore ne sono al centro e, come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ell’autobiografia, anche nel diario narratore e protagonista coincidono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ccff"/>
                </a:solidFill>
                <a:latin typeface="Verdana"/>
              </a:rPr>
              <a:t>Il linguagg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Il linguaggio utilizzato è informale, cioè colloquiale, semplice, a volte le annotazioni sono frammentarie, prive di unità e organicità; ciò accade perché il diario personale non è pensato per la lettura da parte di un pubbl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52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ccff"/>
                </a:solidFill>
                <a:latin typeface="Verdana"/>
              </a:rPr>
              <a:t>I tempi verb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I tempi verbali più usa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il presente per le riflession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il passato prossimo per le narrazioni perché i fatti registrati sono accaduti da poco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56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ccff"/>
                </a:solidFill>
                <a:latin typeface="Verdana"/>
              </a:rPr>
              <a:t>Perché si scrive un diar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Per comprendere sé stessi, per fissare nel tempo fatti e riflessioni e soprattutto per comunicare i propri pensieri a qualcuno (il diario è spesso concepito come un amico immaginario) che non possa giudicarci per come realmente si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0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ccff"/>
                </a:solidFill>
                <a:latin typeface="Verdana"/>
              </a:rPr>
              <a:t>Le caratteristiche form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la data in alto a des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l’intestazione, cioè il nome dell’ami-co immagina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una parte centrale di riflessione o narrazione di fat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il congedo, ossia i saluti e la fir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alpha</cp:lastModifiedBy>
  <dcterms:modified xsi:type="dcterms:W3CDTF">2001-04-14T14:22:30Z</dcterms:modified>
  <cp:revision>30</cp:revision>
  <dc:subject/>
  <dc:title>Il racconto d’avventura</dc:title>
</cp:coreProperties>
</file>