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98B172-4382-4A5E-A02E-4EC0CE51F7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6B3A9-2510-48F3-BEC8-6B7CB63B5B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EB5633-D893-424B-B94F-0B219110E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B600C5-7ACF-4F7B-AF99-D109A146F4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58BA7-C6B3-430B-82CA-44937DF67E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0D8D3-D992-4B87-AEEE-640318E4D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276647-97D1-46D6-99CF-6DF38E677C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F71672-AB22-4E26-B75A-B0FB89BEC1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6EE9B-6992-4610-B988-74A2647AD0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BEF16-8638-4359-96C3-A65433FB9E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4809E-F847-4AA0-BB49-2DAD07FE99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F09257-205D-422F-B15C-FA731BBC1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44F445-2FAE-48B2-983C-C0C5805F0F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" Target="slid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" Target="slide3.xml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914040"/>
            <a:ext cx="777240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000" spc="-1" strike="noStrike">
                <a:solidFill>
                  <a:srgbClr val="ff3399"/>
                </a:solidFill>
                <a:latin typeface="Verdana"/>
              </a:rPr>
              <a:t>Come fare un riassunt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2120" y="2666880"/>
            <a:ext cx="7619760" cy="1905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Per fare un buon riassunto ci sono quattro passi fondamentali da compier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Vediamoli uno alla volta…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44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subTitle"/>
          </p:nvPr>
        </p:nvSpPr>
        <p:spPr>
          <a:xfrm>
            <a:off x="685440" y="1599840"/>
            <a:ext cx="7620120" cy="472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lvl="1" marL="914400" indent="-457200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Rispondere a delle semplici domande dopo aver letto il testo: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ffff00"/>
                </a:solidFill>
                <a:latin typeface="Verdana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lvl="1" marL="914400" indent="-457200"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title"/>
          </p:nvPr>
        </p:nvSpPr>
        <p:spPr>
          <a:xfrm>
            <a:off x="838080" y="6858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99"/>
                </a:solidFill>
                <a:latin typeface="Verdana"/>
              </a:rPr>
              <a:t>Le doman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48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  <p:sp>
        <p:nvSpPr>
          <p:cNvPr id="49" name=""/>
          <p:cNvSpPr/>
          <p:nvPr/>
        </p:nvSpPr>
        <p:spPr>
          <a:xfrm>
            <a:off x="2895480" y="2645640"/>
            <a:ext cx="3429000" cy="3682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</a:rPr>
              <a:t>chi sono i personagg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2895480" y="3255120"/>
            <a:ext cx="3429000" cy="3682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</a:rPr>
              <a:t>qual è l’argomento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895480" y="3864600"/>
            <a:ext cx="3429000" cy="3682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</a:rPr>
              <a:t>i motivi dell’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895480" y="4474440"/>
            <a:ext cx="3429000" cy="3682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</a:rPr>
              <a:t>il luogo dell’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2895480" y="5160240"/>
            <a:ext cx="3429000" cy="3682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</a:rPr>
              <a:t>il tempo dell’azion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2895480" y="5846040"/>
            <a:ext cx="3429000" cy="368280"/>
          </a:xfrm>
          <a:prstGeom prst="rect">
            <a:avLst/>
          </a:prstGeom>
          <a:noFill/>
          <a:ln w="38160">
            <a:solidFill>
              <a:srgbClr val="00cc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</a:rPr>
              <a:t>lo svolgimento dei fatti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1219320" y="2681280"/>
            <a:ext cx="761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Chi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219320" y="3290760"/>
            <a:ext cx="1523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Che cosa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1219320" y="3900600"/>
            <a:ext cx="1600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Perché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1219320" y="451008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Dov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1219320" y="5119560"/>
            <a:ext cx="137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Quando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1219320" y="5791320"/>
            <a:ext cx="990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800" spc="-1" strike="noStrike">
                <a:solidFill>
                  <a:srgbClr val="ffff00"/>
                </a:solidFill>
                <a:latin typeface="Verdana"/>
                <a:ea typeface="Times New Roman"/>
              </a:rPr>
              <a:t>Come?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457200" y="1752480"/>
            <a:ext cx="8305920" cy="4724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499"/>
              </a:spcBef>
              <a:buClr>
                <a:srgbClr val="ffff00"/>
              </a:buClr>
              <a:buFont typeface="Verdana"/>
              <a:buAutoNum type="arabicPeriod" startAt="2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Si passa poi a dividere il testo in </a:t>
            </a:r>
            <a:r>
              <a:rPr b="0" lang="it-IT" sz="2000" spc="-1" strike="noStrike" u="sng">
                <a:solidFill>
                  <a:srgbClr val="ccccff"/>
                </a:solidFill>
                <a:uFillTx/>
                <a:latin typeface="Verdana"/>
                <a:ea typeface="Times New Roman"/>
                <a:hlinkClick r:id="rId1" action="ppaction://hlinksldjump"/>
              </a:rPr>
              <a:t>sequenze</a:t>
            </a: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. 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" name="alpha_off_80x80" descr=""/>
          <p:cNvPicPr/>
          <p:nvPr/>
        </p:nvPicPr>
        <p:blipFill>
          <a:blip r:embed="rId2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63" name="piede" descr=""/>
          <p:cNvPicPr/>
          <p:nvPr/>
        </p:nvPicPr>
        <p:blipFill>
          <a:blip r:embed="rId3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  <p:sp>
        <p:nvSpPr>
          <p:cNvPr id="64" name="PlaceHolder 2"/>
          <p:cNvSpPr>
            <a:spLocks noGrp="1"/>
          </p:cNvSpPr>
          <p:nvPr>
            <p:ph type="title"/>
          </p:nvPr>
        </p:nvSpPr>
        <p:spPr>
          <a:xfrm>
            <a:off x="685800" y="5331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99"/>
                </a:solidFill>
                <a:latin typeface="Verdana"/>
              </a:rPr>
              <a:t>La divisione in sequenz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1905120" y="4114800"/>
            <a:ext cx="50292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000" spc="-1" strike="noStrike">
                <a:solidFill>
                  <a:srgbClr val="ffff00"/>
                </a:solidFill>
                <a:latin typeface="Verdana"/>
                <a:ea typeface="Times New Roman"/>
              </a:rPr>
              <a:t>Come si fa a individuare le sequenze?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609480" y="2971800"/>
            <a:ext cx="1676520" cy="1367280"/>
            <a:chOff x="609480" y="2971800"/>
            <a:chExt cx="1676520" cy="1367280"/>
          </a:xfrm>
        </p:grpSpPr>
        <p:sp>
          <p:nvSpPr>
            <p:cNvPr id="67" name=""/>
            <p:cNvSpPr/>
            <p:nvPr/>
          </p:nvSpPr>
          <p:spPr>
            <a:xfrm>
              <a:off x="609480" y="2971800"/>
              <a:ext cx="1676520" cy="914400"/>
            </a:xfrm>
            <a:prstGeom prst="ellipse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1443600" y="3890520"/>
              <a:ext cx="465840" cy="448560"/>
            </a:xfrm>
            <a:prstGeom prst="line">
              <a:avLst/>
            </a:prstGeom>
            <a:ln w="93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685800" y="3276720"/>
              <a:ext cx="15238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C’è un capovers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0" name=""/>
          <p:cNvGrpSpPr/>
          <p:nvPr/>
        </p:nvGrpSpPr>
        <p:grpSpPr>
          <a:xfrm>
            <a:off x="4876920" y="2286000"/>
            <a:ext cx="1676160" cy="1814400"/>
            <a:chOff x="4876920" y="2286000"/>
            <a:chExt cx="1676160" cy="1814400"/>
          </a:xfrm>
        </p:grpSpPr>
        <p:sp>
          <p:nvSpPr>
            <p:cNvPr id="71" name=""/>
            <p:cNvSpPr/>
            <p:nvPr/>
          </p:nvSpPr>
          <p:spPr>
            <a:xfrm>
              <a:off x="4952880" y="2590920"/>
              <a:ext cx="15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Cambia il luogo della scen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876920" y="2286000"/>
              <a:ext cx="1676160" cy="990720"/>
            </a:xfrm>
            <a:prstGeom prst="ellipse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 flipH="1">
              <a:off x="5390280" y="3310200"/>
              <a:ext cx="343800" cy="7902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4" name=""/>
          <p:cNvGrpSpPr/>
          <p:nvPr/>
        </p:nvGrpSpPr>
        <p:grpSpPr>
          <a:xfrm>
            <a:off x="2362320" y="2362320"/>
            <a:ext cx="2057400" cy="1791000"/>
            <a:chOff x="2362320" y="2362320"/>
            <a:chExt cx="2057400" cy="1791000"/>
          </a:xfrm>
        </p:grpSpPr>
        <p:sp>
          <p:nvSpPr>
            <p:cNvPr id="75" name=""/>
            <p:cNvSpPr/>
            <p:nvPr/>
          </p:nvSpPr>
          <p:spPr>
            <a:xfrm>
              <a:off x="2666880" y="2590920"/>
              <a:ext cx="15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Compaiono nuovi personaggi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362320" y="2362320"/>
              <a:ext cx="2057400" cy="914400"/>
            </a:xfrm>
            <a:prstGeom prst="ellipse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407040" y="3314160"/>
              <a:ext cx="196200" cy="839160"/>
            </a:xfrm>
            <a:prstGeom prst="line">
              <a:avLst/>
            </a:prstGeom>
            <a:ln w="93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78" name=""/>
          <p:cNvGrpSpPr/>
          <p:nvPr/>
        </p:nvGrpSpPr>
        <p:grpSpPr>
          <a:xfrm>
            <a:off x="457200" y="4577040"/>
            <a:ext cx="1981080" cy="1366560"/>
            <a:chOff x="457200" y="4577040"/>
            <a:chExt cx="1981080" cy="1366560"/>
          </a:xfrm>
        </p:grpSpPr>
        <p:sp>
          <p:nvSpPr>
            <p:cNvPr id="79" name=""/>
            <p:cNvSpPr/>
            <p:nvPr/>
          </p:nvSpPr>
          <p:spPr>
            <a:xfrm>
              <a:off x="609480" y="541008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C’è una descri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57200" y="5105520"/>
              <a:ext cx="1981080" cy="838080"/>
            </a:xfrm>
            <a:prstGeom prst="ellipse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 flipV="1">
              <a:off x="1436040" y="4577040"/>
              <a:ext cx="699840" cy="5036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2" name=""/>
          <p:cNvGrpSpPr/>
          <p:nvPr/>
        </p:nvGrpSpPr>
        <p:grpSpPr>
          <a:xfrm>
            <a:off x="2438280" y="4569840"/>
            <a:ext cx="2210040" cy="1754640"/>
            <a:chOff x="2438280" y="4569840"/>
            <a:chExt cx="2210040" cy="1754640"/>
          </a:xfrm>
        </p:grpSpPr>
        <p:sp>
          <p:nvSpPr>
            <p:cNvPr id="83" name=""/>
            <p:cNvSpPr/>
            <p:nvPr/>
          </p:nvSpPr>
          <p:spPr>
            <a:xfrm>
              <a:off x="2743200" y="5745240"/>
              <a:ext cx="1676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C’è una rifless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2438280" y="5410080"/>
              <a:ext cx="2210040" cy="914400"/>
            </a:xfrm>
            <a:prstGeom prst="ellipse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 flipV="1">
              <a:off x="3513600" y="4569840"/>
              <a:ext cx="212040" cy="8424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6" name=""/>
          <p:cNvGrpSpPr/>
          <p:nvPr/>
        </p:nvGrpSpPr>
        <p:grpSpPr>
          <a:xfrm>
            <a:off x="4876920" y="4669560"/>
            <a:ext cx="2286000" cy="1669320"/>
            <a:chOff x="4876920" y="4669560"/>
            <a:chExt cx="2286000" cy="1669320"/>
          </a:xfrm>
        </p:grpSpPr>
        <p:sp>
          <p:nvSpPr>
            <p:cNvPr id="87" name=""/>
            <p:cNvSpPr/>
            <p:nvPr/>
          </p:nvSpPr>
          <p:spPr>
            <a:xfrm>
              <a:off x="5181480" y="5805360"/>
              <a:ext cx="1752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C’è una narrazione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4876920" y="5576760"/>
              <a:ext cx="2286000" cy="762120"/>
            </a:xfrm>
            <a:prstGeom prst="ellipse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 flipH="1" flipV="1">
              <a:off x="5515560" y="4669560"/>
              <a:ext cx="407880" cy="8802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6781680" y="4510080"/>
            <a:ext cx="1828800" cy="1128600"/>
            <a:chOff x="6781680" y="4510080"/>
            <a:chExt cx="1828800" cy="1128600"/>
          </a:xfrm>
        </p:grpSpPr>
        <p:sp>
          <p:nvSpPr>
            <p:cNvPr id="91" name=""/>
            <p:cNvSpPr/>
            <p:nvPr/>
          </p:nvSpPr>
          <p:spPr>
            <a:xfrm>
              <a:off x="7010280" y="5135400"/>
              <a:ext cx="1524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C’è un dialog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6781680" y="4952880"/>
              <a:ext cx="1828800" cy="685800"/>
            </a:xfrm>
            <a:prstGeom prst="ellipse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 flipH="1" flipV="1">
              <a:off x="7017120" y="4510080"/>
              <a:ext cx="747720" cy="428400"/>
            </a:xfrm>
            <a:prstGeom prst="line">
              <a:avLst/>
            </a:prstGeom>
            <a:ln w="93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4" name=""/>
          <p:cNvGrpSpPr/>
          <p:nvPr/>
        </p:nvGrpSpPr>
        <p:grpSpPr>
          <a:xfrm>
            <a:off x="6629400" y="2971800"/>
            <a:ext cx="1752480" cy="1252800"/>
            <a:chOff x="6629400" y="2971800"/>
            <a:chExt cx="1752480" cy="1252800"/>
          </a:xfrm>
        </p:grpSpPr>
        <p:sp>
          <p:nvSpPr>
            <p:cNvPr id="95" name=""/>
            <p:cNvSpPr/>
            <p:nvPr/>
          </p:nvSpPr>
          <p:spPr>
            <a:xfrm>
              <a:off x="6858000" y="3200400"/>
              <a:ext cx="152388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just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it-IT" sz="1200" spc="-1" strike="noStrike">
                  <a:solidFill>
                    <a:srgbClr val="ffff00"/>
                  </a:solidFill>
                  <a:latin typeface="Verdana"/>
                  <a:ea typeface="Times New Roman"/>
                </a:rPr>
                <a:t>C’è un salto nel tempo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6629400" y="2971800"/>
              <a:ext cx="1752480" cy="838080"/>
            </a:xfrm>
            <a:prstGeom prst="ellipse">
              <a:avLst/>
            </a:prstGeom>
            <a:noFill/>
            <a:ln w="9360">
              <a:solidFill>
                <a:srgbClr val="ff3399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>
              <a:off x="6974640" y="3852360"/>
              <a:ext cx="528480" cy="372240"/>
            </a:xfrm>
            <a:prstGeom prst="line">
              <a:avLst/>
            </a:prstGeom>
            <a:ln w="9360">
              <a:solidFill>
                <a:srgbClr val="ff3399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99"/>
                </a:solidFill>
                <a:latin typeface="Verdana"/>
              </a:rPr>
              <a:t>L’assegnazione</a:t>
            </a:r>
            <a:r>
              <a:rPr b="0" lang="it-IT" sz="4000" spc="-1" strike="noStrike">
                <a:solidFill>
                  <a:srgbClr val="ff3399"/>
                </a:solidFill>
                <a:latin typeface="Verdana"/>
              </a:rPr>
              <a:t> di un  titolo</a:t>
            </a:r>
            <a:endParaRPr b="0" lang="en-US" sz="40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99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100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1371600" y="281916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AutoNum type="arabicPeriod" startAt="3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Una volta individuate le sequenze, si dà un titolo a ciascuna di esse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99"/>
                </a:solidFill>
                <a:latin typeface="Verdana"/>
              </a:rPr>
              <a:t>Il testo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subTitle"/>
          </p:nvPr>
        </p:nvSpPr>
        <p:spPr>
          <a:xfrm>
            <a:off x="1066320" y="2819160"/>
            <a:ext cx="708660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AutoNum type="arabicPeriod" startAt="4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Verdana"/>
              </a:rPr>
              <a:t>Infine si crea un testo servendosi dei titoli individuati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4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105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761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ff3399"/>
                </a:solidFill>
                <a:latin typeface="Verdana"/>
              </a:rPr>
              <a:t>Da ricordar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subTitle"/>
          </p:nvPr>
        </p:nvSpPr>
        <p:spPr>
          <a:xfrm>
            <a:off x="761760" y="213372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6094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Verdana"/>
              </a:rPr>
              <a:t>E’ fondamentale ricordare che: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 algn="just">
              <a:lnSpc>
                <a:spcPct val="10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Verdana"/>
              </a:rPr>
              <a:t>devono essere evitati i discorsi diretti e i dialoghi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Verdana"/>
              </a:rPr>
              <a:t>se il testo da riassumere è scritto in prima persona, il riassunto dovrà essere organizzato in terza persona, utilizzando frasi di questo tipo: “l’autore afferma che…”;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 algn="just">
              <a:lnSpc>
                <a:spcPct val="100000"/>
              </a:lnSpc>
              <a:spcBef>
                <a:spcPts val="550"/>
              </a:spcBef>
              <a:buClr>
                <a:srgbClr val="ffff0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non si deve mai intervenire con giudizi personali, ossia bisogna produrre un testo il più possibile oggettiv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109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8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alpha_off_80x80" descr=""/>
          <p:cNvPicPr/>
          <p:nvPr/>
        </p:nvPicPr>
        <p:blipFill>
          <a:blip r:embed="rId1"/>
          <a:stretch/>
        </p:blipFill>
        <p:spPr>
          <a:xfrm>
            <a:off x="8305920" y="304920"/>
            <a:ext cx="641160" cy="555480"/>
          </a:xfrm>
          <a:prstGeom prst="rect">
            <a:avLst/>
          </a:prstGeom>
          <a:ln w="0">
            <a:noFill/>
          </a:ln>
        </p:spPr>
      </p:pic>
      <p:pic>
        <p:nvPicPr>
          <p:cNvPr id="111" name="piede" descr=""/>
          <p:cNvPicPr/>
          <p:nvPr/>
        </p:nvPicPr>
        <p:blipFill>
          <a:blip r:embed="rId2"/>
          <a:stretch/>
        </p:blipFill>
        <p:spPr>
          <a:xfrm>
            <a:off x="380880" y="6477120"/>
            <a:ext cx="3076560" cy="152280"/>
          </a:xfrm>
          <a:prstGeom prst="rect">
            <a:avLst/>
          </a:prstGeom>
          <a:ln w="0">
            <a:noFill/>
          </a:ln>
        </p:spPr>
      </p:pic>
      <p:sp>
        <p:nvSpPr>
          <p:cNvPr id="112" name="PlaceHolder 1"/>
          <p:cNvSpPr>
            <a:spLocks noGrp="1"/>
          </p:cNvSpPr>
          <p:nvPr>
            <p:ph type="subTitle"/>
          </p:nvPr>
        </p:nvSpPr>
        <p:spPr>
          <a:xfrm>
            <a:off x="1371600" y="2209680"/>
            <a:ext cx="6400800" cy="23623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Il termine </a:t>
            </a:r>
            <a:r>
              <a:rPr b="0" i="1" lang="it-IT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sequenza </a:t>
            </a:r>
            <a:r>
              <a:rPr b="0" lang="it-IT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deriva dal linguaggio cinematografico e sta ad indicare le parti del testo in successione (la parola </a:t>
            </a:r>
            <a:r>
              <a:rPr b="0" i="1" lang="it-IT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sequenza</a:t>
            </a:r>
            <a:r>
              <a:rPr b="0" lang="it-IT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 vuol infatti dire </a:t>
            </a:r>
            <a:r>
              <a:rPr b="0" i="1" lang="it-IT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successione</a:t>
            </a:r>
            <a:r>
              <a:rPr b="0" lang="it-IT" sz="2200" spc="-1" strike="noStrike">
                <a:solidFill>
                  <a:srgbClr val="ffff00"/>
                </a:solidFill>
                <a:latin typeface="Verdana"/>
                <a:ea typeface="Times New Roman"/>
              </a:rPr>
              <a:t>) che possiedono compiutezza narrativa, cioè che hanno un senso compiuto.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algn="just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 type="title"/>
          </p:nvPr>
        </p:nvSpPr>
        <p:spPr>
          <a:xfrm>
            <a:off x="609480" y="838080"/>
            <a:ext cx="7772400" cy="106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>
            <a:hlinkClick r:id="rId3" action="ppaction://hlinksldjump"/>
          </p:cNvPr>
          <p:cNvSpPr/>
          <p:nvPr/>
        </p:nvSpPr>
        <p:spPr>
          <a:xfrm>
            <a:off x="7086600" y="4495680"/>
            <a:ext cx="533520" cy="381240"/>
          </a:xfrm>
          <a:custGeom>
            <a:avLst/>
            <a:gdLst>
              <a:gd name="textAreaLeft" fmla="*/ 24480 w 533520"/>
              <a:gd name="textAreaRight" fmla="*/ 509040 w 533520"/>
              <a:gd name="textAreaTop" fmla="*/ 24480 h 381240"/>
              <a:gd name="textAreaBottom" fmla="*/ 356760 h 381240"/>
            </a:gdLst>
            <a:ahLst/>
            <a:rect l="textAreaLeft" t="textAreaTop" r="textAreaRight" b="textAreaBottom"/>
            <a:pathLst>
              <a:path w="30220" h="21600">
                <a:moveTo>
                  <a:pt x="0" y="0"/>
                </a:moveTo>
                <a:lnTo>
                  <a:pt x="30220" y="0"/>
                </a:lnTo>
                <a:lnTo>
                  <a:pt x="30220" y="21600"/>
                </a:lnTo>
                <a:lnTo>
                  <a:pt x="0" y="21600"/>
                </a:lnTo>
                <a:close/>
              </a:path>
              <a:path fill="lightenLess" w="30220" h="21600">
                <a:moveTo>
                  <a:pt x="0" y="0"/>
                </a:moveTo>
                <a:lnTo>
                  <a:pt x="30220" y="0"/>
                </a:lnTo>
                <a:lnTo>
                  <a:pt x="28820" y="1400"/>
                </a:lnTo>
                <a:lnTo>
                  <a:pt x="1400" y="1400"/>
                </a:lnTo>
                <a:close/>
              </a:path>
              <a:path fill="darken" w="30220" h="21600">
                <a:moveTo>
                  <a:pt x="30220" y="0"/>
                </a:moveTo>
                <a:lnTo>
                  <a:pt x="30220" y="21600"/>
                </a:lnTo>
                <a:lnTo>
                  <a:pt x="28820" y="20200"/>
                </a:lnTo>
                <a:lnTo>
                  <a:pt x="28820" y="1400"/>
                </a:lnTo>
                <a:close/>
              </a:path>
              <a:path fill="darkenLess" w="30220" h="21600">
                <a:moveTo>
                  <a:pt x="302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820" y="20200"/>
                </a:lnTo>
                <a:close/>
              </a:path>
              <a:path fill="lighten" w="302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0220" h="21600">
                <a:moveTo>
                  <a:pt x="8103" y="10800"/>
                </a:moveTo>
                <a:lnTo>
                  <a:pt x="22116" y="3794"/>
                </a:lnTo>
                <a:lnTo>
                  <a:pt x="22116" y="17806"/>
                </a:lnTo>
                <a:close/>
              </a:path>
            </a:pathLst>
          </a:custGeom>
          <a:solidFill>
            <a:srgbClr val="0000ff"/>
          </a:solidFill>
          <a:ln w="9360">
            <a:solidFill>
              <a:srgbClr val="00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11T17:01:36Z</dcterms:created>
  <dc:creator>drang</dc:creator>
  <dc:description/>
  <dc:language>en-US</dc:language>
  <cp:lastModifiedBy>alpha</cp:lastModifiedBy>
  <dcterms:modified xsi:type="dcterms:W3CDTF">2001-10-31T17:59:57Z</dcterms:modified>
  <cp:revision>70</cp:revision>
  <dc:subject/>
  <dc:title>Il racconto d’avventura</dc:title>
</cp:coreProperties>
</file>