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C93-0DE2-4D63-9FF9-9D1588C9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1D1-185C-4B40-B340-EC0D77EB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8E1-E92E-4501-8661-21B6468B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690-F5F2-4177-B81F-83B7CA9B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262-2880-456C-86A9-0D97334A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708-A5BA-464C-97AB-BFF4C652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2F1-AFFD-4A2B-8D86-709D1C59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2EB-1169-4508-AF15-C0891435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F4D-CA72-45A2-BAAB-1B4E1D77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18E2-633B-4FF0-8A06-0C4D8DD9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064-CFB9-4BD1-AE05-83B16727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3C2-BECD-4A55-8B10-479C3281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F5BF-833A-4FB6-A1A5-124FABEA0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Verdana"/>
              </a:rPr>
              <a:t>L’autobiograf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“</a:t>
            </a: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Autobiografia” è una parola che deriva dal greco e significa “scrivere la propria vita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Quindi il protagonista delle vicende narrate è l’autore stesso, che scrive in prima perso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44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3520" y="2361960"/>
            <a:ext cx="6172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Nel diario il registro linguistico è informale, cioè colloquiale, con espressioni tipiche della lingua parl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80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Verdana"/>
              </a:rPr>
              <a:t>I tempi verb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Sono i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l’imperfetto e il passato remoto indicativi per i fatti accaduti nel passa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il presente indicativo per introdurre riflessioni sul passa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il trapassato prossimo indicativo per riportare pensieri o riflessioni fatte nel pass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48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Verdana"/>
              </a:rPr>
              <a:t>E’ un testo sogget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Ossia l’autore racconta di sé ma rischia di non essere obiettivo perch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scrive a distanza di tempo ricorrendo alla sua memor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non scrive per sé stesso ma per un pubblico di lettori agli occhi dei quali vuole dare un’immagine positiva della sua perso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52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Verdana"/>
              </a:rPr>
              <a:t>Differenze con il di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ccccff"/>
                </a:solidFill>
                <a:uFillTx/>
                <a:latin typeface="Verdana"/>
                <a:hlinkClick r:id="rId1" action="ppaction://hlinksldjump"/>
              </a:rPr>
              <a:t>E’ scritta a distanza di t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E’ scritta per al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La narrazione è selettiva (l’autore sceglie gli avvenimenti più significativi della sua vi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La narrazione è più artico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E’ scritta spesso in età adu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Il registro linguistico è for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lpha_off_80x80" descr=""/>
          <p:cNvPicPr/>
          <p:nvPr/>
        </p:nvPicPr>
        <p:blipFill>
          <a:blip r:embed="rId3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56" name="piede" descr=""/>
          <p:cNvPicPr/>
          <p:nvPr/>
        </p:nvPicPr>
        <p:blipFill>
          <a:blip r:embed="rId4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ccccff"/>
                </a:solidFill>
                <a:uFillTx/>
                <a:latin typeface="Verdana"/>
                <a:hlinkClick r:id="rId1" action="ppaction://hlinksldjump"/>
              </a:rPr>
              <a:t>Il diario invece è scritto al momento del verificarsi dei fa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lpha_off_80x80" descr=""/>
          <p:cNvPicPr/>
          <p:nvPr/>
        </p:nvPicPr>
        <p:blipFill>
          <a:blip r:embed="rId2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60" name="piede" descr=""/>
          <p:cNvPicPr/>
          <p:nvPr/>
        </p:nvPicPr>
        <p:blipFill>
          <a:blip r:embed="rId3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320" y="228564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ccccff"/>
                </a:solidFill>
                <a:uFillTx/>
                <a:latin typeface="Verdana"/>
                <a:hlinkClick r:id="rId1" action="ppaction://hlinksldjump"/>
              </a:rPr>
              <a:t>Nel diario l’autore scrive per sé st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lpha_off_80x80" descr=""/>
          <p:cNvPicPr/>
          <p:nvPr/>
        </p:nvPicPr>
        <p:blipFill>
          <a:blip r:embed="rId2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64" name="piede" descr=""/>
          <p:cNvPicPr/>
          <p:nvPr/>
        </p:nvPicPr>
        <p:blipFill>
          <a:blip r:embed="rId3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Nel diario l’autore scrive tutto ciò che gli accade, anche quotidianamente o a distanza di 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68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066320" y="228564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Nel diario l’autore scrive annotazioni brevi e frammenta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Il diario invece è la forma di scrittura preferita dagli adolesc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76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17:01:36Z</dcterms:created>
  <dc:creator>drang</dc:creator>
  <dc:description/>
  <dc:language>en-US</dc:language>
  <cp:lastModifiedBy>alpha</cp:lastModifiedBy>
  <dcterms:modified xsi:type="dcterms:W3CDTF">2001-04-14T14:13:28Z</dcterms:modified>
  <cp:revision>25</cp:revision>
  <dc:subject/>
  <dc:title>Il racconto d’avventura</dc:title>
</cp:coreProperties>
</file>